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103-C1BC-41CA-8A9D-5FED2169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87B-1F4C-40EF-84D5-61762E72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A65-B36D-4727-8EAA-F9F8E8DB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A78-3A0F-4443-8A64-09EFFCC3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FAF9-B32F-4F21-B052-07B8144D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8015-C1E8-4965-8C34-1AAC3BE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789A-E8F0-48B6-BFD3-EB5CE566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AE1-C03C-44C1-95BE-BF54AC37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4056-3BE6-438E-8C0C-F032F97B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35F7-2918-41D5-AE4B-2978E95E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5FF8-6875-4D98-AE0E-9499752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28A-6AAE-4EDE-8130-3FE1C518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6519-CADC-4FB7-8EB1-8D8609E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D198-2143-44B6-B18A-AEE3A997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1F8C-4058-40F6-BADC-5B67B6C7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11E2-3795-4F45-9970-13BDCE5C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95FE-97B4-413C-B27C-0867C9B3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C6D-84A6-428D-A21C-946D4A95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7B4-A4DF-42D1-9D4C-2E806BAF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1FB-08B2-4A39-ACF7-E0C1368F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A10-B355-4CBB-93FE-612CD41C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7DB-8EEB-4379-89F5-A166407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59E-F1DD-4EFB-A97F-7639319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8A0-7BC4-43C6-ADAA-A555064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DD7-C886-4C0C-8D11-E09362CC1B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456E-9522-46DF-88E7-7294D51751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oy.Fitzgerald@vernonct.or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ind.galegroup.com/gps/publicationSearch.do?queryType=PH&amp;inPS=true&amp;type=getIssues&amp;searchParamsString=&amp;prodId=IPS&amp;currentPosition=0&amp;userGroupName=s0003&amp;searchTerm=Canadian+Book+Review+Annual&amp;index=JX&amp;tabID=T003&amp;contentSet=IAC-Documents&amp;previousPage=searchResults" TargetMode="External"/><Relationship Id="rId2" Type="http://schemas.openxmlformats.org/officeDocument/2006/relationships/hyperlink" Target="http://find.galegroup.com/gps/publicationSearch.do?queryType=PH&amp;inPS=true&amp;type=getIssues&amp;searchParamsString=&amp;prodId=IPS&amp;currentPosition=0&amp;userGroupName=s0003&amp;searchTerm=Canadian+Book+Review+Annual&amp;index=JX&amp;tabID=T003&amp;contentSet=IAC-Documents&amp;previousPage=searchResults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go-passport.grolier.com/" TargetMode="External"/><Relationship Id="rId3" Type="http://schemas.openxmlformats.org/officeDocument/2006/relationships/hyperlink" Target="http://go.grolier.com/" TargetMode="External"/><Relationship Id="rId4" Type="http://schemas.openxmlformats.org/officeDocument/2006/relationships/hyperlink" Target="http://infotrac.galegroup.com/itweb/s1461?db=SRC" TargetMode="External"/><Relationship Id="rId5" Type="http://schemas.openxmlformats.org/officeDocument/2006/relationships/hyperlink" Target="http://find.galegroup.com/menu/start?prod=OVRC&amp;userGroupName=s1461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www.iconn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 to Magazines and Online Datab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ult Ed - 200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mped or need help with online resour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mail the RHS Librarian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oy.Fitzgerald@vernonct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 will email back with answer if I can hel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 of ICONN Resourc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8839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55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30040"/>
            <a:ext cx="86868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9148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on the Internet – Sources Availab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Library Resources -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Library Resources –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Internet Resources (Google or oth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be authorit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are provent to be un-reliable some of the time so must be double checked if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3146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86200" y="972360"/>
            <a:ext cx="8418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through ICONN (** This also has a HISTORIC CONNECTICUT NEWSPAPERS DATABASE which covers 1764-1922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77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 or Cit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B: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ANADIAN BOOK REVIEW ANNUAL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 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TA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OK REVIEW, BRIEF ARTICLE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B: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NURSING TIM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STRAC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VER STORY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 – Electronic or Print versions of publications by the government on all different top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have some in Print in our VERTICAL FILE, a print set of folders in file cabine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websites may have information 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pulation Statistics and Public Information are common and available from many websites ending in “.gov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f these you can download PDF versions or request a print version be mailed to you for free or a small char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to specific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295200"/>
            <a:ext cx="73152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 Library Resources -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93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00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62240"/>
            <a:ext cx="876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86400" y="91008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Card Catalo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found through Pai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Vertical File &amp;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s – Historical – Ask at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bases from State and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 Onlin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Home page on RHS Webs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WIKI page 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ine Databases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LIER 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go-passport.grolier.com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go.grolier.c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TUDENT RESOURCE CENTER GOL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srcx/start.do?sc=S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pposing Viewpoints Resource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ovrc/start.do?prodId=OV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Databases are overall more reliable than a search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T State Resources at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co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09-10-19T22:11:39Z</dcterms:modified>
  <cp:revision>19</cp:revision>
  <dc:subject/>
  <dc:title>Library Orientation</dc:title>
</cp:coreProperties>
</file>